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2F7B-1A68-4D33-BCF8-BFFB7B2AA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4121-C377-4E3C-8067-B982FAC6CB9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BCAB-98A7-43C7-84F4-6B553D67741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7B89-9554-434E-BB53-9697A960F43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733D-650E-41E7-97CB-953D94EFAD0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657-F67F-4357-B8C4-5AA55AEEB7D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852C-115A-466F-974F-4741A785C19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19BB-9BC7-47D8-82AA-EE95B3C4C13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21ED-FA61-4D46-8B29-EF25DB421D6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E16A-D5EB-4C6A-B004-A903727DE91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507-456E-4CE3-BB3B-360E0E0AEC1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D60A-1156-44F3-BA3A-9E64D88CB52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704-DCC8-4B5C-BFB5-3E4CBE239E6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A49-CAF8-474B-998F-C6D050F88AE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F33A-4A93-4299-8EF0-F4E0B6F8276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9A97-E57F-4316-84E1-2843A4A7C90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560-47FC-4C6F-B0AA-3346C720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964-CF97-4F78-8598-E3FA7C9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1BD-2620-4ED6-978C-650E38A7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BED-A40C-4FD1-9A97-0A21B925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6A8D-A847-4429-8187-9E297F81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D59E-8FB7-4B12-A7F6-B7111650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E3A-71D2-4BBF-8550-8C25E78E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3155-8D3D-485A-B0D6-E174330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72EA-0947-4D54-8993-ECD456CE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5AAF-9154-4FB5-905D-255D619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62FA-F312-4747-84A2-96D80C1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AF8-5871-4A48-A5E2-9E56A15F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2C90-879F-4BC5-8468-3F5BE46C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B62A-640F-487D-951C-B88BDCD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5A0E-0110-44B2-81C9-F33B3D06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3CA-F8BA-4CA8-AB62-70D19A85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4A0C-0EE5-4105-8F1B-2C206330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AD2D-851C-4FE3-84FE-05CB9A18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F66C-7E93-4BBC-8228-15C2FA6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FC0E-00EA-4D02-BEF5-0D3697D6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2642-ECC0-4457-8DB7-8877BECC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C1AB-75DD-489B-B48E-42449E5D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568-4B4C-4480-9088-F084C586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2C3D-6F1D-40CE-8DB2-4E10173F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DB08-9A86-429A-AD65-103993A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6185-59F9-40C5-8E1E-E8C460D6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C449-EF99-49EA-8290-1FAEB5D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6362-D10D-47F2-BD61-C19E1A8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87E3-838C-438E-B009-C1E106EF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3839-6236-4035-A352-69384330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EE019-226D-4232-B72D-70D5EAAE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5D2B-146F-4E3B-9EDC-71FFCD91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0205-A18F-4E64-A302-FFA2DC8A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1C7-F83B-46C1-962B-4EF79917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4EFDB-6F16-4630-A4B2-5318F0E5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F920-F148-46F3-A469-4A3A514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0A59-4E90-4A96-A39A-40B7989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7838-37BF-4630-B05B-C7F89D1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1D2E-A79D-4289-B7F3-938A23B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DB1A-4912-4306-9238-267555D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409A-8BFA-4AA5-9318-A613121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890E-A293-4286-A23E-99452235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A563-B3CD-4607-A53F-D400C148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03C57-0B12-4714-B733-691601F2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60E-211C-4964-9679-C9D0542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D654-34D0-4828-BECA-0E84CBE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7056-FC63-46E6-B0D4-ED3D5EE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AA7B-01E4-4C8A-ADC6-90E8E407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5A41-2468-4892-B8DF-ADC34CA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C966-EE79-48B4-8AA5-AD7BB75E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C2DE-4717-4808-9509-BF6EC63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1295-47E1-457B-9C57-52C7413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DBA6B-8915-4616-B0AC-BC4233E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BA0FD-CA5E-4BD4-868A-02E98180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2422-3A6D-4E70-A8C2-A607992F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D88-4301-463A-98D9-EE2C4AC4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A8B2-8D41-4CE2-BA2A-4F5211AB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C568-D8AD-4E89-9B34-AE6D097A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BDD9-26DD-4866-9608-35EB23D0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9F64-661E-482F-8FD3-0538D4B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04A9-AD1B-4DD9-9BC3-E126262D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66042-F601-453D-A765-7C9D176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79A4-5A4E-4CDF-B095-B0BE1F77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621F9-9A06-40DC-9822-966CF4C0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C3B2-E53A-40C9-AC2D-6355798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C367-D29D-432A-BD33-E06F313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FD4-5155-4EEF-B618-36377E5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C8D3-E875-4CB3-8D9D-D6A47B85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C8407-B9B0-41D9-AEE0-FFE44FEB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C1D7-7F70-4F42-B72E-2C9CDD8E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9CC-546C-40C6-98E3-742D9DE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F40-342A-468F-939D-1B2C1F4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991F-F0C2-439D-BF34-6CB826E1BC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2EC-6638-4334-9A3E-52EA2CBB3FC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E75D-555E-451A-AB89-3196FD2E46E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78BE-6C43-4821-AE04-DCD23AB749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258D-3FC4-4D7E-A977-4D77AAB848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5353-1672-4415-BCA2-4FFA955366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4" descr=""/>
          <p:cNvPicPr/>
          <p:nvPr/>
        </p:nvPicPr>
        <p:blipFill>
          <a:blip r:embed="rId1"/>
          <a:stretch/>
        </p:blipFill>
        <p:spPr>
          <a:xfrm>
            <a:off x="512640" y="1365120"/>
            <a:ext cx="7882200" cy="1895760"/>
          </a:xfrm>
          <a:prstGeom prst="rect">
            <a:avLst/>
          </a:prstGeom>
          <a:ln w="0">
            <a:noFill/>
          </a:ln>
        </p:spPr>
      </p:pic>
      <p:sp>
        <p:nvSpPr>
          <p:cNvPr id="303" name="Subtitle 3"/>
          <p:cNvSpPr/>
          <p:nvPr/>
        </p:nvSpPr>
        <p:spPr>
          <a:xfrm>
            <a:off x="1371600" y="39625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133360" y="4952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Rizalina G. Gomez, Ph.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Arial Narrow"/>
              </a:rPr>
              <a:t>Other Terms for Educational / Instructional Med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ining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-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arning resour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lti-sensory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533520" y="609480"/>
          <a:ext cx="8229600" cy="2819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oadcast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ss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um that disseminates info to a large number of recipients via tele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a envisioned and designed to reach a very large aud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3429000"/>
          <a:ext cx="8229600" cy="1884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o and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spapers, magazines, comics, radio,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57200" y="380880"/>
          <a:ext cx="8229600" cy="167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the sense of sigh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57200" y="3657600"/>
          <a:ext cx="8229600" cy="1393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-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 and se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57200" y="2057400"/>
          <a:ext cx="8229600" cy="129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radio, audio discs, recordings, language lab, etc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charts, pictures boards, diagrams, maps, models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57200" y="5029200"/>
          <a:ext cx="8229600" cy="1371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videotapes / discs, sound filmstrips, printed materials with recorded s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457200" y="1371600"/>
          <a:ext cx="8229600" cy="38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rd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ft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ipment and related electronic and mechanical compon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grams, printouts, or instructional materials that go with the 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457200" y="38088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n-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ed word is used predominantly in transmitting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fo is transmitted predominantly through AV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57200" y="4267080"/>
          <a:ext cx="8229600" cy="1905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uide sheets, handouts, study guides, manuals, newsletters,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models, real objects, audio recordings/discs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8380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r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quino, G., Abellera, R. and Hidalgo, L. (1988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Principles of teaching and 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nila: National Booksto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aro, C. (200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eaching educational technology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Manila: Rex Publishi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ntry, C. (198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: A question of mea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rom Educational media and technology yearbook 1987. Littleton, CO. Libraries Unlimit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rabe, M. (2004).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 Integrating technology for meaningful lear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Y: Houghton Miffli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ones, B. (1999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A differentiating definition of instructional technology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vailable onli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Terms to be Cover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 an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ther terms for educational/instruction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roadcast and Mass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, Visual, and Audio-Visu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rdware and Softw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int and Non-Print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Education vs Instr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cess used to impart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terprise of supplying the conditions which ensure growth or adequacy of life irrespective of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imparting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providing activities, materials and guidance that facilitates learning in either formal or informal situ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457200" y="879480"/>
          <a:ext cx="8229600" cy="4761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field as wide as education itself, its primary concern is the design, implementation, and evaluation of curriculum and learning experiences,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focused on the teaching-learning process rather than on other aspects of edu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457200" y="1189080"/>
          <a:ext cx="8229600" cy="399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combination of instructional, learning, developmental, and managerial techn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hose aspects of educational technology that are concerned primarily with instruction as contrasted to design and operation of instit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457200" y="655560"/>
          <a:ext cx="8229600" cy="544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ny move toward an analysis of the curriculum into specific objectives and instructional design, a branch of educational theory and practice concerned primarily with the design and the use of message which controls learning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systematic way of designing, carrying out, and evaluating the total process of learning and teaching in terms of specific objectives, based on research in human learning and 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457200" y="274680"/>
          <a:ext cx="8229600" cy="645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ry concern is the design, implementation and evaluation of curriculum and learning experiences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echnology adapted and used for educational purp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lying scientific knowledge about human learning to the practical tasks of teaching and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means of connecting the teacher, the instructional experience &amp; learner in ways that enhance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 Narrow"/>
              </a:rPr>
              <a:t>Phases of Educational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886200" y="1828800"/>
            <a:ext cx="2438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733920" y="502920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1:51:16Z</dcterms:created>
  <dc:creator>User</dc:creator>
  <dc:description/>
  <dc:language>en-US</dc:language>
  <cp:lastModifiedBy>msu-iit</cp:lastModifiedBy>
  <dcterms:modified xsi:type="dcterms:W3CDTF">2011-06-28T02:56:15Z</dcterms:modified>
  <cp:revision>26</cp:revision>
  <dc:subject/>
  <dc:title>Educational Technology and its Related Terms</dc:title>
</cp:coreProperties>
</file>